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5E03-6D4D-4B34-871B-A9984BA5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64FD-18DF-482A-A8C6-C45B7377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E455-45B3-4219-912D-0AFF26CF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EC8-C02D-4A32-8CA8-EBDFB678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5D9E-3623-44A7-BDA4-9EEE256C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2C25-C110-4582-BEE3-BFDCE634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B5ED-5EAD-49E3-A3D8-BE42EFFC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816D-130F-464D-BEDF-668A871C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2E05-EEA1-4356-8B64-626FA937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41A1-F760-4FD6-8AC6-D2D6BBD5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5450-6C15-4D1A-BBA2-B89523B3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38FF-5E5F-4E9A-AF1F-2CD1385F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A767-D207-4014-A734-D9D8E5AC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9C76-F876-4081-818C-9A03809E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1D8F-00F4-4981-B4D2-614AB620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299D-8162-45E9-817A-FF630D95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9CE9-35C1-419E-A8C1-CD3F2008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25FF-C5A0-4CF7-BF14-46747C5F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46C-D686-4B07-81A7-E33E3373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8F9-1D24-42C8-800A-127C748F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203F-882F-4DB7-93B3-A181C836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2046-4449-4835-9248-79F5FE30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5FEF-E2CD-47B8-A793-66F22859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7B8-5386-44A2-8857-91F6C333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3F5D-2469-4A37-98E7-54102DE53E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5BFC-6560-4AC6-8A85-B5BF2FE6A0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848720" cy="41148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Анкета для оценки синдрома эмоционального выгор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c0039"/>
                </a:solidFill>
                <a:latin typeface="Arial"/>
              </a:rPr>
              <a:t>Вопрос №9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905120"/>
            <a:ext cx="647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чувствую себя перегруженным проблемами других люд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Варианты ответов в балл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чти никогда   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дко              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Часто         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чти всегда         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Интерпретация результатов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нее 3-х баллов – низкий уровень эмоционального выгор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 3 до 12  баллов  –  средний уровень эмоционального выгор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ше 12 баллов — высокий показатель эмоционального выгор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c0039"/>
                </a:solidFill>
                <a:latin typeface="Arial"/>
              </a:rPr>
              <a:t>Вопрос №1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чувствую себя эмоционально опустошенным к концу рабочег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Варианты ответов в балл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чти никогда   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дко              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Часто         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чти всегда         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c0039"/>
                </a:solidFill>
                <a:latin typeface="Arial"/>
              </a:rPr>
              <a:t>Вопрос №2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плохо засыпаю из-за переживаний, связанных с работ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Варианты ответов в балл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чти никогда   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дко              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Часто         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чти всегда         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c0039"/>
                </a:solidFill>
                <a:latin typeface="Arial"/>
              </a:rPr>
              <a:t>Вопрос №3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77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моциональная нагрузка на работе слишком велика для ме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Варианты ответов в балл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чти никогда   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дко              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Часто         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чти всегда         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c0039"/>
                </a:solidFill>
                <a:latin typeface="Arial"/>
              </a:rPr>
              <a:t>Вопрос №4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 рабочего дня я могу срываться на своих близ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Варианты ответов в балл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чти никогда   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дко              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Часто         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чти всегда         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c0039"/>
                </a:solidFill>
                <a:latin typeface="Arial"/>
              </a:rPr>
              <a:t>Вопрос №5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8288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чувствую, что мои нервы натянуты до пред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Варианты ответов в балл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чти никогда   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дко              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Часто         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чти всегда         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c0039"/>
                </a:solidFill>
                <a:latin typeface="Arial"/>
              </a:rPr>
              <a:t>Вопрос №6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371240"/>
            <a:ext cx="6400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е сложно снять эмоциональное напряжение, возникающее у меня после рабочег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Варианты ответов в балл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чти никогда   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дко              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Часто         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чти всегда         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c0039"/>
                </a:solidFill>
                <a:latin typeface="Arial"/>
              </a:rPr>
              <a:t>Вопрос №7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9051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я работа плохо влияет на мое здоровь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Варианты ответов в балл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чти никогда   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дко              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Часто         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чти всегда         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c0039"/>
                </a:solidFill>
                <a:latin typeface="Arial"/>
              </a:rPr>
              <a:t>Вопрос №8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9807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 рабочего дня у меня уже ни на что не остается с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Варианты ответов в балл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чти никогда   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дко              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Часто         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чти всегда         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1-11T08:53:5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